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7BB3-E10B-4EFA-BF86-3CE5E037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EF8E-A68C-4FF1-9F49-05E4FEC1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412-5104-4423-A34B-15BE199A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6C7-EDD2-4F78-8E01-A318939E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2CC-EF7A-4EDF-B8D6-65E14075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E38-CB16-4129-920A-D39D8C06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F5E-AD80-423C-8FC3-BEE5731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E29-BD4B-4F23-9711-4F36FF2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11D-AE95-4E53-BE40-1880E324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284-A7B4-44EB-A9B3-E2A4631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5F8-231B-48EF-A565-05BB888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67B-CEDE-4D9C-87CE-4D69DA9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7B0-39C1-4EE0-A02F-A360D2A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5A1-F35B-4800-8069-7E4AFB03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F6FD-48B3-4072-8734-14E2E896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905120" y="1447920"/>
            <a:ext cx="601956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82880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617920" y="3429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60840" y="35053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876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70200" y="312408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algo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70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54864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St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1981080" y="182880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468360" y="1432080"/>
            <a:ext cx="981000" cy="98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"/>
          <p:cNvPicPr/>
          <p:nvPr/>
        </p:nvPicPr>
        <p:blipFill>
          <a:blip r:embed="rId5"/>
          <a:stretch/>
        </p:blipFill>
        <p:spPr>
          <a:xfrm>
            <a:off x="2151000" y="31240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"/>
          <p:cNvPicPr/>
          <p:nvPr/>
        </p:nvPicPr>
        <p:blipFill>
          <a:blip r:embed="rId8"/>
          <a:stretch/>
        </p:blipFill>
        <p:spPr>
          <a:xfrm>
            <a:off x="2133720" y="487692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C:\Users\Unicorns are Cool\Downloads\xobanaaxo on Instagram_files\640e37a8286511e2a76e22000a9f1968_7.jpg"/>
          <p:cNvPicPr/>
          <p:nvPr/>
        </p:nvPicPr>
        <p:blipFill>
          <a:blip r:embed="rId9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532541_4387223202872_804143334_n.jpeg"/>
          <p:cNvPicPr/>
          <p:nvPr/>
        </p:nvPicPr>
        <p:blipFill>
          <a:blip r:embed="rId10"/>
          <a:stretch/>
        </p:blipFill>
        <p:spPr>
          <a:xfrm>
            <a:off x="1219320" y="5486400"/>
            <a:ext cx="45720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221840" y="60958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8" descr="532541_4387223202872_804143334_n.jpeg"/>
          <p:cNvPicPr/>
          <p:nvPr/>
        </p:nvPicPr>
        <p:blipFill>
          <a:blip r:embed="rId11"/>
          <a:stretch/>
        </p:blipFill>
        <p:spPr>
          <a:xfrm>
            <a:off x="2133720" y="5410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3075120" y="3733920"/>
            <a:ext cx="3581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Debemos debería ir a patinar sobre hielo. Me voy con Alban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debería veni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21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0" descr="C:\Users\Unicorns are Cool\Downloads\behappy_dontworry on Instagram_files\profile_33995694_75sq_1352944363.jpg"/>
          <p:cNvPicPr/>
          <p:nvPr/>
        </p:nvPicPr>
        <p:blipFill>
          <a:blip r:embed="rId12"/>
          <a:stretch/>
        </p:blipFill>
        <p:spPr>
          <a:xfrm>
            <a:off x="2617920" y="3733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34340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y a voy a pedir a mis padre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14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1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1900080" y="844560"/>
            <a:ext cx="3891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900080" y="1488960"/>
            <a:ext cx="3902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7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"/>
          <p:cNvPicPr/>
          <p:nvPr/>
        </p:nvPicPr>
        <p:blipFill>
          <a:blip r:embed="rId2"/>
          <a:stretch/>
        </p:blipFill>
        <p:spPr>
          <a:xfrm>
            <a:off x="1374840" y="1430280"/>
            <a:ext cx="371520" cy="592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05Z</dcterms:modified>
  <cp:revision>114</cp:revision>
  <dc:subject/>
  <dc:title>Profile</dc:title>
</cp:coreProperties>
</file>